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56.jpeg" ContentType="image/jpeg"/>
  <Override PartName="/ppt/media/image44.png" ContentType="image/png"/>
  <Override PartName="/ppt/media/image58.jpeg" ContentType="image/jpeg"/>
  <Override PartName="/ppt/media/image59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621-CA5C-4779-BACD-5F2C1126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C49-AD67-43D9-ACEF-1CE20A0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000-D258-4406-A1F0-C4A034E1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D01-DE58-49A3-A0F5-6C993D0B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F8D-7150-4B84-843E-1BB1A29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966-EB50-468F-A32F-0FB32F5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C22-DD99-4736-BF0E-505F08E0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0B1-07FD-4679-AC7D-D7BD87BE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A61-BF35-4D6D-96DC-361F776F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C02-DFE2-40DB-B3FE-8A1BFC1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DF0-539C-4C1D-8BF8-C826C01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F04-2118-47E7-98E6-4CDE6F1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F7A-2947-408F-8451-41BC8BC9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6, 17 &amp;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rds.yahoo.com/_ylt=A9iby6Gg1A9GPkwBLQWjzbkF;_ylu=X3oDMTA4NDgyNWN0BHNlYwNwcm9m/SIG=11qsh3irq/EXP=1175528992/**http%3A//www.epa.gov/maia/images/dna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ixed with enzymes that only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stro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ansformatio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ttp://rds.yahoo.com/_ylt=A9iby4T44Q9GHiIBkRKjzbkF;_ylu=X3oDMTA4NDgyNWN0BHNlYwNwcm9m/SIG=139o4gpsc/EXP=1175532408/**http%3A//biology.kenyon.edu/courses/biol114/KH_lecture_images/How_DNA_works/FG11_02.JPG"/>
          <p:cNvPicPr/>
          <p:nvPr/>
        </p:nvPicPr>
        <p:blipFill>
          <a:blip r:embed="rId1"/>
          <a:srcRect l="4166" t="33338" r="22503" b="0"/>
          <a:stretch/>
        </p:blipFill>
        <p:spPr>
          <a:xfrm>
            <a:off x="1143000" y="2971800"/>
            <a:ext cx="670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olecule that stores information and transfers it to new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191120" y="3581280"/>
            <a:ext cx="3824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ersh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amp; Chase,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9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tudi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ir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nfec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oph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http://rds.yahoo.com/_ylt=A9iby56V5w9G2jsBJhijzbkF;_ylu=X3oDMTA4NDgyNWN0BHNlYwNwcm9m/SIG=13ht81fif/EXP=1175533845/**http%3A//www.savetheantibiotic.com/public_html/0_Educators/microbe%2520images/bacteriophage.jpg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76" name="Line 10"/>
          <p:cNvSpPr/>
          <p:nvPr/>
        </p:nvSpPr>
        <p:spPr>
          <a:xfrm flipV="1">
            <a:off x="3962520" y="2971440"/>
            <a:ext cx="160020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3962520" y="3962520"/>
            <a:ext cx="2590560" cy="144756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s it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bacte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rotein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NA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://rds.yahoo.com/_ylt=A9ibyiFa5w9GsU0AnRCjzbkF;_ylu=X3oDMTA4NDgyNWN0BHNlYwNwcm9m/SIG=142hjolgn/EXP=1175533786/**http%3A//www-ocean.tamu.edu/education/oceanworld-old/resources/oceanography-book/Images/BacteriophageCartoon.jpg"/>
          <p:cNvPicPr/>
          <p:nvPr/>
        </p:nvPicPr>
        <p:blipFill>
          <a:blip r:embed="rId1"/>
          <a:srcRect l="16736" t="0" r="9388" b="38470"/>
          <a:stretch/>
        </p:blipFill>
        <p:spPr>
          <a:xfrm>
            <a:off x="5105520" y="2133720"/>
            <a:ext cx="403848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riment #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adioactive Sulf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 if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ered the bac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dioactivity i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http://rds.yahoo.com/_ylt=A9iby4Nv6g9Gi2sBuBWjzbkF;_ylu=X3oDMTA4NDgyNWN0BHNlYwNwcm9m/SIG=1201i07fd/EXP=1175534575/**http%3A//www.mun.ca/biology/scarr/Fg10_06b.gif"/>
          <p:cNvPicPr/>
          <p:nvPr/>
        </p:nvPicPr>
        <p:blipFill>
          <a:blip r:embed="rId1"/>
          <a:srcRect l="50003" t="0" r="0" b="0"/>
          <a:stretch/>
        </p:blipFill>
        <p:spPr>
          <a:xfrm>
            <a:off x="4114800" y="14479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Experiment #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adioactive Phosphor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e i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ered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ity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rds.yahoo.com/_ylt=A9iby4Nv6g9Gi2sBuBWjzbkF;_ylu=X3oDMTA4NDgyNWN0BHNlYwNwcm9m/SIG=1201i07fd/EXP=1175534575/**http%3A//www.mun.ca/biology/scarr/Fg10_06b.gif"/>
          <p:cNvPicPr/>
          <p:nvPr/>
        </p:nvPicPr>
        <p:blipFill>
          <a:blip r:embed="rId1"/>
          <a:srcRect l="0" t="0" r="48573" b="0"/>
          <a:stretch/>
        </p:blipFill>
        <p:spPr>
          <a:xfrm>
            <a:off x="4038480" y="1295280"/>
            <a:ext cx="4800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 Conclus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genetic material of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i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de it apparent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control molecule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s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3733920" y="5105520"/>
            <a:ext cx="2063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0’s – 1950’s: Scientists knew DNA was made of nucleot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idn’t know how complex the DNA molecule really w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http://rds.yahoo.com/_ylt=A9gnMifZHxFGf2sB3jGjzbkF;_ylu=X3oDMTA4NDgyNWN0BHNlYwNwcm9m/SIG=11spetgrh/EXP=1175613785/**http%3A//www.hollywood-north.net/wiley.jpg"/>
          <p:cNvPicPr/>
          <p:nvPr/>
        </p:nvPicPr>
        <p:blipFill>
          <a:blip r:embed="rId1"/>
          <a:srcRect l="0" t="0" r="0" b="49337"/>
          <a:stretch/>
        </p:blipFill>
        <p:spPr>
          <a:xfrm>
            <a:off x="6324480" y="434340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ur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7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0" t="5807" r="66294" b="55766"/>
          <a:stretch/>
        </p:blipFill>
        <p:spPr>
          <a:xfrm>
            <a:off x="3809880" y="259092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8"/>
          <p:cNvSpPr/>
          <p:nvPr/>
        </p:nvSpPr>
        <p:spPr>
          <a:xfrm>
            <a:off x="3809880" y="2590920"/>
            <a:ext cx="32004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7620120" y="4648320"/>
            <a:ext cx="121896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49574" t="-874" r="12756" b="57438"/>
          <a:stretch/>
        </p:blipFill>
        <p:spPr>
          <a:xfrm>
            <a:off x="3657600" y="2666880"/>
            <a:ext cx="5181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0’s: Mendel figured ou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wa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s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wn throug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0’s: People wanted to know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doing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2480" t="56392" r="69268" b="6096"/>
          <a:stretch/>
        </p:blipFill>
        <p:spPr>
          <a:xfrm>
            <a:off x="3809880" y="24382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51287" t="56392" r="19178" b="6096"/>
          <a:stretch/>
        </p:blipFill>
        <p:spPr>
          <a:xfrm>
            <a:off x="3962520" y="2209680"/>
            <a:ext cx="4876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ing 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hosphate (5’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 +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3’)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http://rds.yahoo.com/_ylt=A9gnMiQpJRFGKOgAmBGjzbkF;_ylu=X3oDMTA4NDgyNWN0BHNlYwNwcm9m/SIG=12gsockfo/EXP=1175615145/**http%3A//images.clinicaltools.com/images/gene/nucleotides2.jpg"/>
          <p:cNvPicPr/>
          <p:nvPr/>
        </p:nvPicPr>
        <p:blipFill>
          <a:blip r:embed="rId1"/>
          <a:srcRect l="6311" t="0" r="7365" b="61654"/>
          <a:stretch/>
        </p:blipFill>
        <p:spPr>
          <a:xfrm>
            <a:off x="685800" y="3809880"/>
            <a:ext cx="80773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3200400" y="3124080"/>
            <a:ext cx="1295280" cy="9144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876920" y="3124080"/>
            <a:ext cx="304560" cy="1524240"/>
          </a:xfrm>
          <a:prstGeom prst="line">
            <a:avLst/>
          </a:prstGeom>
          <a:ln w="6984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3246480" y="3660840"/>
            <a:ext cx="1689120" cy="32637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4524480" y="3676680"/>
            <a:ext cx="1787400" cy="331632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win Chargaff, 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http://rds.yahoo.com/_ylt=A9gnMiekLBFGziwAy4OjzbkF;_ylu=X3oDMTA4NDgyNWN0BHNlYwNwcm9m/SIG=120g13lf5/EXP=1175617060/**http%3A//www.cns.pdx.edu/~newmanl/Chargaff.GIF"/>
          <p:cNvPicPr/>
          <p:nvPr/>
        </p:nvPicPr>
        <p:blipFill>
          <a:blip r:embed="rId1"/>
          <a:srcRect l="0" t="19220" r="0" b="28905"/>
          <a:stretch/>
        </p:blipFill>
        <p:spPr>
          <a:xfrm>
            <a:off x="457200" y="2514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514600" y="2666880"/>
            <a:ext cx="464832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t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Franc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r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95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se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ranklin’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ray pattern to develop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http://rds.yahoo.com/_ylt=A9gnMicaNxFGQTcAjQujzbkF;_ylu=X3oDMTA4NDgyNWN0BHNlYwNwcm9m/SIG=125prr2pf/EXP=1175619738/**http%3A//www.hallucinogens.com/lsd/watson-crick.jpg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howed that DNA wa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 stra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apped around each othe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ouble hel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http://rds.yahoo.com/_ylt=A9gnMiRdOBFGWPgA6nujzbkF;_ylu=X3oDMTA4NDgyNWN0BHNlYwNwcm9m/SIG=12dtju8fp/EXP=1175620061/**http%3A//bh.knu.ac.kr/~sdsong/images/HB1-DNA%2520DHelix.gif"/>
          <p:cNvPicPr/>
          <p:nvPr/>
        </p:nvPicPr>
        <p:blipFill>
          <a:blip r:embed="rId1"/>
          <a:srcRect l="0" t="3882" r="63220" b="15414"/>
          <a:stretch/>
        </p:blipFill>
        <p:spPr>
          <a:xfrm>
            <a:off x="4876920" y="1447920"/>
            <a:ext cx="3908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Base pa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hargaff’s findings now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enine pairs with 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Guanine pairs with Cytosi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http://rds.yahoo.com/_ylt=A9gnMiZhORFGXx0A3XCjzbkF;_ylu=X3oDMTA4NDgyNWN0BHNlYwNwcm9m/SIG=12jeo96rq/EXP=1175620321/**http%3A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5410080" y="1752480"/>
            <a:ext cx="3733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Base pa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or every C, there is a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or every A, there is a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http://rds.yahoo.com/_ylt=A9gnMiDqORFGlJkARFSjzbkF;_ylu=X3oDMTA4NDgyNWN0BHNlYwNwcm9m/SIG=12mckcod9/EXP=1175620458/**http%3A//faculty.evansville.edu/be6/b1074/notes/DNA/dna_molecule.gif"/>
          <p:cNvPicPr/>
          <p:nvPr/>
        </p:nvPicPr>
        <p:blipFill>
          <a:blip r:embed="rId1"/>
          <a:stretch/>
        </p:blipFill>
        <p:spPr>
          <a:xfrm>
            <a:off x="3505320" y="304920"/>
            <a:ext cx="5337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 paralle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ds run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ite directi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http://rds.yahoo.com/_ylt=A9gnMiDqORFGlJkARFSjzbkF;_ylu=X3oDMTA4NDgyNWN0BHNlYwNwcm9m/SIG=12mckcod9/EXP=1175620458/**http%3A//faculty.evansville.edu/be6/b1074/notes/DNA/dna_molecule.gif"/>
          <p:cNvPicPr/>
          <p:nvPr/>
        </p:nvPicPr>
        <p:blipFill>
          <a:blip r:embed="rId1"/>
          <a:stretch/>
        </p:blipFill>
        <p:spPr>
          <a:xfrm>
            <a:off x="3505320" y="304920"/>
            <a:ext cx="5337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igure 2-31. Synthesis of a polynucleotide, RNA or DNA, is a multistep process driven by ATP hydrolysis."/>
          <p:cNvPicPr/>
          <p:nvPr/>
        </p:nvPicPr>
        <p:blipFill>
          <a:blip r:embed="rId1"/>
          <a:srcRect l="46403" t="51857" r="18402" b="-1844"/>
          <a:stretch/>
        </p:blipFill>
        <p:spPr>
          <a:xfrm rot="1627800">
            <a:off x="4277880" y="673200"/>
            <a:ext cx="3832200" cy="5454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’ = end with exposed hydroxyl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’ = end with exposed phosphate 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derick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riffith, 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ypes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pneumonia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Smo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cause pneumonia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R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rds.yahoo.com/_ylt=A9iby4dn2A9GmJQAc2.jzbkF;_ylu=X3oDMTA4NDgyNWN0BHNlYwNwcm9m/SIG=12np1hh3l/EXP=1175529959/**http%3A//www.uic.edu/classes/bios/bios100/summer2003/figure11_1ab.jpg"/>
          <p:cNvPicPr/>
          <p:nvPr/>
        </p:nvPicPr>
        <p:blipFill>
          <a:blip r:embed="rId1"/>
          <a:srcRect l="0" t="0" r="68430" b="50305"/>
          <a:stretch/>
        </p:blipFill>
        <p:spPr>
          <a:xfrm>
            <a:off x="1523880" y="4495680"/>
            <a:ext cx="236232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rds.yahoo.com/_ylt=A9iby6CN2A9G_V4BqBujzbkF;_ylu=X3oDMTA4NDgyNWN0BHNlYwNwcm9m/SIG=12nl854mi/EXP=1175529997/**http%3A//www.uic.edu/classes/bios/bios100/summer2003/figure11_1ac.jpg"/>
          <p:cNvPicPr/>
          <p:nvPr/>
        </p:nvPicPr>
        <p:blipFill>
          <a:blip r:embed="rId2"/>
          <a:srcRect l="0" t="18304" r="71261" b="29420"/>
          <a:stretch/>
        </p:blipFill>
        <p:spPr>
          <a:xfrm>
            <a:off x="5257800" y="434340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’ = end with exposed hydroxyl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’ = end with exposed phosphate 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http://rds.yahoo.com/_ylt=A0WTb_rkqwpNlC0A57OjzbkF/SIG=13i985s6h/EXP=1292631396/**http%3a/1.bp.blogspot.com/_-lAB5VhXvw8/RdHAsvSLJZI/AAAAAAAAAAM/4st0ktUNuxo/s320/Replication.gif"/>
          <p:cNvPicPr/>
          <p:nvPr/>
        </p:nvPicPr>
        <p:blipFill>
          <a:blip r:embed="rId1"/>
          <a:srcRect l="5552" t="0" r="50007" b="0"/>
          <a:stretch/>
        </p:blipFill>
        <p:spPr>
          <a:xfrm>
            <a:off x="5486400" y="228600"/>
            <a:ext cx="2514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Process that for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 DNA stra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elson &amp; Stah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rov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it happe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emi-conserv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Each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n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NA double helix has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one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ol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rand and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one n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r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371600" y="3886200"/>
            <a:ext cx="152388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2" descr="http://rds.yahoo.com/_ylt=A9gnMiK3jBJGm1UAqSCjzbkF;_ylu=X3oDMTA4NDgyNWN0BHNlYwNwcm9m/SIG=122ff5k6f/EXP=1175707191/**http%3A//www.utexas.edu/courses/zoo325/11-13.gif"/>
          <p:cNvPicPr/>
          <p:nvPr/>
        </p:nvPicPr>
        <p:blipFill>
          <a:blip r:embed="rId1"/>
          <a:srcRect l="43378" t="0" r="0" b="68063"/>
          <a:stretch/>
        </p:blipFill>
        <p:spPr>
          <a:xfrm>
            <a:off x="2133720" y="3505320"/>
            <a:ext cx="46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okary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ir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ingle ORIGIN OF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4876920" y="3809880"/>
            <a:ext cx="3429000" cy="2743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029200" y="3962520"/>
            <a:ext cx="3124080" cy="2438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5181480" y="5867280"/>
            <a:ext cx="152640" cy="76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4952880" y="5410080"/>
            <a:ext cx="152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4724280" y="53341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818240" y="5318280"/>
            <a:ext cx="444240" cy="72864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30"/>
          <p:cNvSpPr/>
          <p:nvPr/>
        </p:nvSpPr>
        <p:spPr>
          <a:xfrm>
            <a:off x="5075280" y="5337000"/>
            <a:ext cx="412560" cy="7099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2971800" y="5486400"/>
            <a:ext cx="1676520" cy="457200"/>
          </a:xfrm>
          <a:prstGeom prst="pi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 (Straight l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tarts 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many origins of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9" descr="http://rds.yahoo.com/_ylt=A9gnMiELgRJGKP8AhW6jzbkF;_ylu=X3oDMTA4NDgyNWN0BHNlYwNwcm9m/SIG=12ob3p9ov/EXP=1175704203/**http%3A//www.dls.ym.edu.tw/ol_biology2/ultranet/ReplicationBubbles.gif"/>
          <p:cNvPicPr/>
          <p:nvPr/>
        </p:nvPicPr>
        <p:blipFill>
          <a:blip r:embed="rId1"/>
          <a:srcRect l="0" t="37483" r="0" b="3465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Line 31"/>
          <p:cNvSpPr/>
          <p:nvPr/>
        </p:nvSpPr>
        <p:spPr>
          <a:xfrm flipH="1" flipV="1">
            <a:off x="2133360" y="5715000"/>
            <a:ext cx="53316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2"/>
          <p:cNvSpPr/>
          <p:nvPr/>
        </p:nvSpPr>
        <p:spPr>
          <a:xfrm>
            <a:off x="1905120" y="5562720"/>
            <a:ext cx="45720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 flipV="1">
            <a:off x="3429000" y="5562360"/>
            <a:ext cx="838080" cy="99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886200" y="5410080"/>
            <a:ext cx="60948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5"/>
          <p:cNvSpPr/>
          <p:nvPr/>
        </p:nvSpPr>
        <p:spPr>
          <a:xfrm>
            <a:off x="838080" y="4724280"/>
            <a:ext cx="381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2514600" y="4724280"/>
            <a:ext cx="144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5943600" y="4724280"/>
            <a:ext cx="1219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8001000" y="4724280"/>
            <a:ext cx="457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 flipV="1">
            <a:off x="4191120" y="5562360"/>
            <a:ext cx="3200400" cy="99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40"/>
          <p:cNvSpPr/>
          <p:nvPr/>
        </p:nvSpPr>
        <p:spPr>
          <a:xfrm>
            <a:off x="7086600" y="54100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2239920" y="6026040"/>
            <a:ext cx="204840" cy="20880"/>
          </a:xfrm>
          <a:prstGeom prst="pie">
            <a:avLst/>
          </a:prstGeom>
          <a:solidFill>
            <a:srgbClr val="ff0000"/>
          </a:solidFill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44"/>
          <p:cNvSpPr/>
          <p:nvPr/>
        </p:nvSpPr>
        <p:spPr>
          <a:xfrm flipH="1">
            <a:off x="2057400" y="4191120"/>
            <a:ext cx="990720" cy="1066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3505320" y="4191120"/>
            <a:ext cx="99036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3962520" y="4114800"/>
            <a:ext cx="350496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How it happ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an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parate: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eli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ach str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0" descr="http://rds.yahoo.com/_ylt=A9gnMidBhRJGjmwBZw.jzbkF;_ylu=X3oDMTA4NDgyNWN0BHNlYwNwcm9m/SIG=153g4572p/EXP=1175705281/**http%3A//www.apsu.edu/~thompsonj/Anatomy%2520%26%2520Physiology/2010/2010%2520Exam%2520Reviews/Exam%25201%2520Review/DNA.replication.fig.3.29.jpg"/>
          <p:cNvPicPr/>
          <p:nvPr/>
        </p:nvPicPr>
        <p:blipFill>
          <a:blip r:embed="rId1"/>
          <a:srcRect l="19416" t="15372" r="27507" b="34306"/>
          <a:stretch/>
        </p:blipFill>
        <p:spPr>
          <a:xfrm>
            <a:off x="3886200" y="11430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ng the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rands must be held apart: </a:t>
            </a: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DNA Binding Proteins (SSB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38098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523880" y="548640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767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46483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6"/>
          <p:cNvSpPr/>
          <p:nvPr/>
        </p:nvSpPr>
        <p:spPr>
          <a:xfrm>
            <a:off x="62485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7"/>
          <p:cNvSpPr/>
          <p:nvPr/>
        </p:nvSpPr>
        <p:spPr>
          <a:xfrm>
            <a:off x="1905120" y="5638680"/>
            <a:ext cx="380880" cy="38124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3352680" y="5638680"/>
            <a:ext cx="381240" cy="38124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4800600" y="571500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6248520" y="571500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se: Pri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 must build on existing templ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NA Prim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447920" y="38098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523880" y="548640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447920" y="419112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6705720" y="510552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d that will grow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re is always a free OH to add o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ongates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3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NA Polymerase II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nucleotides using energy from Dephosphorylation of nucleoside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447920" y="42670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1600200" y="601992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 flipV="1">
            <a:off x="1447920" y="479988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705720" y="548640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362320" y="4800600"/>
            <a:ext cx="51051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" descr="Figure 2-31. Synthesis of a polynucleotide, RNA or DNA, is a multistep process driven by ATP hydrolysis.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Experiment 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mo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teri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e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ice didn’t d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http://rds.yahoo.com/_ylt=A9iby6CN2A9G_V4BqBujzbkF;_ylu=X3oDMTA4NDgyNWN0BHNlYwNwcm9m/SIG=12nl854mi/EXP=1175529997/**http%3A//www.uic.edu/classes/bios/bios100/summer2003/figure11_1ac.jpg"/>
          <p:cNvPicPr/>
          <p:nvPr/>
        </p:nvPicPr>
        <p:blipFill>
          <a:blip r:embed="rId1"/>
          <a:stretch/>
        </p:blipFill>
        <p:spPr>
          <a:xfrm>
            <a:off x="4572000" y="1981080"/>
            <a:ext cx="432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gg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that will grow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continu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a new primer must add to yield a free O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ongates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’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3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447920" y="40384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523880" y="632448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1447920" y="457200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362320" y="4572000"/>
            <a:ext cx="51051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52880" y="5867280"/>
            <a:ext cx="2590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419720" y="5867280"/>
            <a:ext cx="3808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Straight Arrow Connector 18"/>
          <p:cNvCxnSpPr/>
          <p:nvPr/>
        </p:nvCxnSpPr>
        <p:spPr>
          <a:xfrm>
            <a:off x="2286000" y="4952520"/>
            <a:ext cx="50299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0"/>
          <p:cNvCxnSpPr/>
          <p:nvPr/>
        </p:nvCxnSpPr>
        <p:spPr>
          <a:xfrm>
            <a:off x="5028840" y="5638320"/>
            <a:ext cx="247716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1" name="Rectangle 23"/>
          <p:cNvSpPr/>
          <p:nvPr/>
        </p:nvSpPr>
        <p:spPr>
          <a:xfrm>
            <a:off x="1981080" y="5867280"/>
            <a:ext cx="23623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1523880" y="5867280"/>
            <a:ext cx="38124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5"/>
          <p:cNvCxnSpPr/>
          <p:nvPr/>
        </p:nvCxnSpPr>
        <p:spPr>
          <a:xfrm>
            <a:off x="1981080" y="5638320"/>
            <a:ext cx="247752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4" name="Straight Arrow Connector 26"/>
          <p:cNvCxnSpPr/>
          <p:nvPr/>
        </p:nvCxnSpPr>
        <p:spPr>
          <a:xfrm flipH="1" flipV="1">
            <a:off x="1523160" y="5333760"/>
            <a:ext cx="579204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gg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gment = Okazaki Fr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ments synthesized by DNA polymerase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ments linked by DNA polymerase I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523880" y="632448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952880" y="5867280"/>
            <a:ext cx="2590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4419720" y="5867280"/>
            <a:ext cx="3808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0"/>
          <p:cNvCxnSpPr/>
          <p:nvPr/>
        </p:nvCxnSpPr>
        <p:spPr>
          <a:xfrm>
            <a:off x="5028840" y="5638320"/>
            <a:ext cx="247716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3" name="Rectangle 23"/>
          <p:cNvSpPr/>
          <p:nvPr/>
        </p:nvSpPr>
        <p:spPr>
          <a:xfrm>
            <a:off x="1981080" y="5867280"/>
            <a:ext cx="23623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1523880" y="5867280"/>
            <a:ext cx="38124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Straight Arrow Connector 25"/>
          <p:cNvCxnSpPr/>
          <p:nvPr/>
        </p:nvCxnSpPr>
        <p:spPr>
          <a:xfrm>
            <a:off x="1981080" y="5638320"/>
            <a:ext cx="247752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6" name="Straight Arrow Connector 26"/>
          <p:cNvCxnSpPr/>
          <p:nvPr/>
        </p:nvCxnSpPr>
        <p:spPr>
          <a:xfrm flipH="1" flipV="1">
            <a:off x="1523160" y="5333760"/>
            <a:ext cx="579204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the Pri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rimers are replaced by DNA Polymerse I, also called exonuc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gments joined by DNA Lig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1523880" y="5410080"/>
            <a:ext cx="6019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523880" y="579132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1447920" y="3886200"/>
            <a:ext cx="60195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447920" y="350532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http://rds.yahoo.com/_ylt=A9gnMifTiRJGVm8BmXWjzbkF;_ylu=X3oDMTA4NDgyNWN0BHNlYwNwcm9m/SIG=12801vcvt/EXP=1175706451/**http%3A//www.prism.gatech.edu/~gh19/b1510/dnasynth.gif"/>
          <p:cNvPicPr/>
          <p:nvPr/>
        </p:nvPicPr>
        <p:blipFill>
          <a:blip r:embed="rId1"/>
          <a:srcRect l="30654" t="16770" r="7012" b="20347"/>
          <a:stretch/>
        </p:blipFill>
        <p:spPr>
          <a:xfrm>
            <a:off x="609480" y="1066680"/>
            <a:ext cx="8534520" cy="42674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7"/>
          <p:cNvSpPr/>
          <p:nvPr/>
        </p:nvSpPr>
        <p:spPr>
          <a:xfrm>
            <a:off x="1371600" y="3886200"/>
            <a:ext cx="152388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990720" y="4800600"/>
            <a:ext cx="1218960" cy="1066680"/>
          </a:xfrm>
          <a:prstGeom prst="hexagon">
            <a:avLst>
              <a:gd name="adj" fmla="val 285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676520" y="4495680"/>
            <a:ext cx="914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143000" y="5638680"/>
            <a:ext cx="762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 Synthesis Reactions &amp;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7 &amp;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http://rds.yahoo.com/_ylt=A0WTefedtgpNeHcAx_6jzbkF/SIG=1243o93ai/EXP=1292634141/**http%3a/cnx.org/content/m12382/latest/dogma_1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Th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A structure shows how i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how how it’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like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b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forma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us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http://rds.yahoo.com/_ylt=A9gnMigejhJG_xUACQ6jzbkF;_ylu=X3oDMTA4NDgyNWN0BHNlYwNwcm9m/SIG=11rdtot0s/EXP=1175707550/**http%3A//paulenglish.com/images/books.jpg"/>
          <p:cNvPicPr/>
          <p:nvPr/>
        </p:nvPicPr>
        <p:blipFill>
          <a:blip r:embed="rId1"/>
          <a:stretch/>
        </p:blipFill>
        <p:spPr>
          <a:xfrm>
            <a:off x="5867280" y="1752480"/>
            <a:ext cx="3040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Th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 to 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this so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ins do almo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thing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http://rds.yahoo.com/_ylt=A9gnMiN0jxJG1XMAkEmjzbkF;_ylu=X3oDMTA4NDgyNWN0BHNlYwNwcm9m/SIG=133e8ehqj/EXP=1175707892/**http%3A//www.cjbalm.com/auto-aero/images/jaeger%2520sunbeam%2520car%2520clock.jpg"/>
          <p:cNvPicPr/>
          <p:nvPr/>
        </p:nvPicPr>
        <p:blipFill>
          <a:blip r:embed="rId1"/>
          <a:srcRect l="3415" t="5161" r="3415" b="7106"/>
          <a:stretch/>
        </p:blipFill>
        <p:spPr>
          <a:xfrm>
            <a:off x="5257800" y="129528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http://rds.yahoo.com/_ylt=A9gnMiK1jxJGfVcAi0qjzbkF;_ylu=X3oDMTA4NDgyNWN0BHNlYwNwcm9m/SIG=12cstvu9r/EXP=1175707957/**http%3A//www.kacr.or.kr/img/gene_expression/hemoglobin.jpg"/>
          <p:cNvPicPr/>
          <p:nvPr/>
        </p:nvPicPr>
        <p:blipFill>
          <a:blip r:embed="rId2"/>
          <a:srcRect l="0" t="41264" r="81751" b="32515"/>
          <a:stretch/>
        </p:blipFill>
        <p:spPr>
          <a:xfrm>
            <a:off x="5562720" y="297180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http://rds.yahoo.com/_ylt=A9gnMiQtkBJGRLEAFB.jzbkF;_ylu=X3oDMTA4NDgyNWN0BHNlYwNwcm9m/SIG=15tj4qa0g/EXP=1175708077/**http%3A//www.gotpetsonline.com/pictures-gallery/dog-pictures-breeders-puppies-rescue/doberman-pinscher-pictures-breeders-puppies-rescue/pictures/doberman-pinscher-0058.jpg"/>
          <p:cNvPicPr/>
          <p:nvPr/>
        </p:nvPicPr>
        <p:blipFill>
          <a:blip r:embed="rId3"/>
          <a:stretch/>
        </p:blipFill>
        <p:spPr>
          <a:xfrm>
            <a:off x="7238880" y="1066680"/>
            <a:ext cx="1649520" cy="259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ttp://rds.yahoo.com/_ylt=A9gnMigUkRJGDBYAPV.jzbkF;_ylu=X3oDMTA4NDgyNWN0BHNlYwNwcm9m/SIG=12mghgp00/EXP=1175708308/**http%3A//hairstyle.internetpublishingcenter.com/sedu-hairstyles3.jpg"/>
          <p:cNvPicPr/>
          <p:nvPr/>
        </p:nvPicPr>
        <p:blipFill>
          <a:blip r:embed="rId4"/>
          <a:srcRect l="52230" t="0" r="0" b="8563"/>
          <a:stretch/>
        </p:blipFill>
        <p:spPr>
          <a:xfrm>
            <a:off x="5105520" y="4419720"/>
            <a:ext cx="1638360" cy="1849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http://rds.yahoo.com/_ylt=A9iby4UkkhJGKWoAV2OjzbkF;_ylu=X3oDMTA4NDgyNWN0BHNlYwNwcm9m/SIG=12p92sq18/EXP=1175708580/**http%3A//medicalimages.allrefer.com/large/active-vs-inactive-muscle.jpg"/>
          <p:cNvPicPr/>
          <p:nvPr/>
        </p:nvPicPr>
        <p:blipFill>
          <a:blip r:embed="rId5"/>
          <a:srcRect l="3336" t="12507" r="65010" b="6248"/>
          <a:stretch/>
        </p:blipFill>
        <p:spPr>
          <a:xfrm>
            <a:off x="7162920" y="3886200"/>
            <a:ext cx="144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ifferent from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l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http://rds.yahoo.com/_ylt=A9gnMiJ.xRNGxXEBCxGjzbkF;_ylu=X3oDMTA4NDgyNWN0BHNlYwNwcm9m/SIG=12skk1ud3/EXP=1175787262/**http%3A//images2.clinicaltools.com/images/gene/dna_versus_rna_reversed.jpg"/>
          <p:cNvPicPr/>
          <p:nvPr/>
        </p:nvPicPr>
        <p:blipFill>
          <a:blip r:embed="rId1"/>
          <a:srcRect l="19674" t="0" r="25686" b="7766"/>
          <a:stretch/>
        </p:blipFill>
        <p:spPr>
          <a:xfrm>
            <a:off x="4572000" y="304920"/>
            <a:ext cx="4343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is different from D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uga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deoxyrib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http://rds.yahoo.com/_ylt=A9gnMiNixhNG2wcAK3OjzbkF;_ylu=X3oDMTA4NDgyNWN0BHNlYwNwcm9m/SIG=13atn04s3/EXP=1175787490/**http%3A//www.enq.ufsc.br/labs/probio/disc_eng_bioq/trabalhos_pos2003/genetica/rna001.gif"/>
          <p:cNvPicPr/>
          <p:nvPr/>
        </p:nvPicPr>
        <p:blipFill>
          <a:blip r:embed="rId1"/>
          <a:srcRect l="7271" t="11551" r="0" b="-998"/>
          <a:stretch/>
        </p:blipFill>
        <p:spPr>
          <a:xfrm>
            <a:off x="3733920" y="380880"/>
            <a:ext cx="5181480" cy="2895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rds.yahoo.com/_ylt=A9gnMiOJxhNGEAYA9V.jzbkF;_ylu=X3oDMTA4NDgyNWN0BHNlYwNwcm9m/SIG=12h3eaofm/EXP=1175787529/**http%3A//www.langara.bc.ca/biology/mario/Assets/deoxyribose.jpg"/>
          <p:cNvPicPr/>
          <p:nvPr/>
        </p:nvPicPr>
        <p:blipFill>
          <a:blip r:embed="rId2"/>
          <a:stretch/>
        </p:blipFill>
        <p:spPr>
          <a:xfrm>
            <a:off x="3352680" y="3733920"/>
            <a:ext cx="5521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Experiment 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mooth bacteria h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teri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mo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rds.yahoo.com/_ylt=A9ibyGWF2g9GzoYADw.jzbkF;_ylu=X3oDMTA4NDgyNWN0BHNlYwNwcm9m/SIG=12nmobsou/EXP=1175530501/**http%3A//www.uic.edu/classes/bios/bios100/summer2003/figure11_1ad.jpg"/>
          <p:cNvPicPr/>
          <p:nvPr/>
        </p:nvPicPr>
        <p:blipFill>
          <a:blip r:embed="rId1"/>
          <a:srcRect l="0" t="0" r="64010" b="0"/>
          <a:stretch/>
        </p:blipFill>
        <p:spPr>
          <a:xfrm>
            <a:off x="4800600" y="1752480"/>
            <a:ext cx="3614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is different from D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N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HYM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rac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ea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i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e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http://rds.yahoo.com/_ylt=A9gnMiAVxxNGUukA4GyjzbkF;_ylu=X3oDMTA4NDgyNWN0BHNlYwNwcm9m/SIG=12kc36rj4/EXP=1175787669/**http%3A//www.cofc.edu/~deavorj/102/images/nucleic/graphic/rna2.gif"/>
          <p:cNvPicPr/>
          <p:nvPr/>
        </p:nvPicPr>
        <p:blipFill>
          <a:blip r:embed="rId1"/>
          <a:srcRect l="0" t="0" r="57548" b="0"/>
          <a:stretch/>
        </p:blipFill>
        <p:spPr>
          <a:xfrm>
            <a:off x="5181480" y="457200"/>
            <a:ext cx="371484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esse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as “messengers” th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r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Made d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rds.yahoo.com/_ylt=A9gnMilfyBNG3GUBhAejzbkF;_ylu=X3oDMTA4NDgyNWN0BHNlYwNwcm9m/SIG=12dagloab/EXP=1175787999/**http%3A//cremationofcare.com/images/icon_carrier_pigeon.bmp"/>
          <p:cNvPicPr/>
          <p:nvPr/>
        </p:nvPicPr>
        <p:blipFill>
          <a:blip r:embed="rId1"/>
          <a:stretch/>
        </p:blipFill>
        <p:spPr>
          <a:xfrm>
            <a:off x="5334120" y="2438280"/>
            <a:ext cx="2217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gether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ib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t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rocess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http://rds.yahoo.com/_ylt=A9gnMiawyRNGU9IALHyjzbkF;_ylu=X3oDMTA4NDgyNWN0BHNlYwNwcm9m/SIG=12cb75l5q/EXP=1175788336/**http%3A//www.cofc.edu/~deavorj/102/images/nucleic/rrna.jpg"/>
          <p:cNvPicPr/>
          <p:nvPr/>
        </p:nvPicPr>
        <p:blipFill>
          <a:blip r:embed="rId1"/>
          <a:srcRect l="60420" t="0" r="0" b="0"/>
          <a:stretch/>
        </p:blipFill>
        <p:spPr>
          <a:xfrm>
            <a:off x="4800600" y="15238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es during transl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rds.yahoo.com/_ylt=A9gnMiW0yhNGOBUBEHijzbkF;_ylu=X3oDMTA4NDgyNWN0BHNlYwNwcm9m/SIG=12f6cp4td/EXP=1175788596/**http%3A//www.emc.maricopa.edu/faculty/farabee/BIOBK/tRNA2.gif"/>
          <p:cNvPicPr/>
          <p:nvPr/>
        </p:nvPicPr>
        <p:blipFill>
          <a:blip r:embed="rId1"/>
          <a:srcRect l="47060" t="0" r="0" b="9645"/>
          <a:stretch/>
        </p:blipFill>
        <p:spPr>
          <a:xfrm>
            <a:off x="4038480" y="1523880"/>
            <a:ext cx="4762800" cy="4878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4038480" y="1523880"/>
            <a:ext cx="20574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6858000" y="1523880"/>
            <a:ext cx="1143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248520" y="1676520"/>
            <a:ext cx="1066680" cy="838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Protein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ake a protein = Specific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dklawmekda.bmp"/>
          <p:cNvPicPr/>
          <p:nvPr/>
        </p:nvPicPr>
        <p:blipFill>
          <a:blip r:embed="rId1"/>
          <a:srcRect l="0" t="38011" r="0" b="0"/>
          <a:stretch/>
        </p:blipFill>
        <p:spPr>
          <a:xfrm>
            <a:off x="1676520" y="2743200"/>
            <a:ext cx="581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ymeras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mo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where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1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0" t="0" r="37501" b="77502"/>
          <a:stretch/>
        </p:blipFill>
        <p:spPr>
          <a:xfrm>
            <a:off x="1066680" y="3962520"/>
            <a:ext cx="6782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olymer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nwi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is portion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4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0" t="20262" r="24863" b="57240"/>
          <a:stretch/>
        </p:blipFill>
        <p:spPr>
          <a:xfrm>
            <a:off x="533520" y="3352680"/>
            <a:ext cx="8153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ymeras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e DN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 from 3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5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ranscrib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 5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3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emplate = non-coding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Non-template = CODING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20126" t="43953" r="21573" b="39472"/>
          <a:stretch/>
        </p:blipFill>
        <p:spPr>
          <a:xfrm>
            <a:off x="762120" y="5029200"/>
            <a:ext cx="800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RNA Ed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mad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informa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 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aking the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ecess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ei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t o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r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5" descr="http://rds.yahoo.com/_ylt=A9iby4AH4hNG2mcAn2WjzbkF;_ylu=X3oDMTA4NDgyNWN0BHNlYwNwcm9m/SIG=12eqc05te/EXP=1175794567/**http%3A//staff.jccc.net/pdecell/proteinsynthesis/introns.gif"/>
          <p:cNvPicPr/>
          <p:nvPr/>
        </p:nvPicPr>
        <p:blipFill>
          <a:blip r:embed="rId1"/>
          <a:srcRect l="0" t="28768" r="0" b="0"/>
          <a:stretch/>
        </p:blipFill>
        <p:spPr>
          <a:xfrm>
            <a:off x="2971800" y="3809880"/>
            <a:ext cx="5867280" cy="27622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2971800" y="3809880"/>
            <a:ext cx="304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Trans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cleus via nuclear po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e from its 5’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5" descr="http://rds.yahoo.com/_ylt=A9iby6AB5BNGaDgB7majzbkF;_ylu=X3oDMTA4NDgyNWN0BHNlYwNwcm9m/SIG=12n09ej6u/EXP=1175795073/**http%3A//people.emich.edu/pbogle/PHED_200/overheads/ch4_art/04_12.jpg"/>
          <p:cNvPicPr/>
          <p:nvPr/>
        </p:nvPicPr>
        <p:blipFill>
          <a:blip r:embed="rId1"/>
          <a:srcRect l="29139" t="16654" r="27115" b="52802"/>
          <a:stretch/>
        </p:blipFill>
        <p:spPr>
          <a:xfrm>
            <a:off x="2971800" y="3809880"/>
            <a:ext cx="45720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0" name="Rectangle 6"/>
          <p:cNvSpPr/>
          <p:nvPr/>
        </p:nvSpPr>
        <p:spPr>
          <a:xfrm>
            <a:off x="3962520" y="3809880"/>
            <a:ext cx="2666880" cy="1219320"/>
          </a:xfrm>
          <a:prstGeom prst="rect">
            <a:avLst/>
          </a:prstGeom>
          <a:solidFill>
            <a:srgbClr val="f2f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4572000" y="4419720"/>
            <a:ext cx="1752480" cy="1143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4343400" y="5638680"/>
            <a:ext cx="2133720" cy="6098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5562720"/>
            <a:ext cx="685800" cy="4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5867280" y="5562720"/>
            <a:ext cx="685800" cy="4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Experiment 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ous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neu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rds.yahoo.com/_ylt=A9ibyGWF2g9GzoYADw.jzbkF;_ylu=X3oDMTA4NDgyNWN0BHNlYwNwcm9m/SIG=12nmobsou/EXP=1175530501/**http%3A//www.uic.edu/classes/bios/bios100/summer2003/figure11_1ad.jpg"/>
          <p:cNvPicPr/>
          <p:nvPr/>
        </p:nvPicPr>
        <p:blipFill>
          <a:blip r:embed="rId1"/>
          <a:srcRect l="0" t="0" r="605" b="0"/>
          <a:stretch/>
        </p:blipFill>
        <p:spPr>
          <a:xfrm>
            <a:off x="1295280" y="3352680"/>
            <a:ext cx="701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 a “code”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 b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ttp://rds.yahoo.com/_ylt=A9iby4X5DhRGZ8IAxRmjzbkF;_ylu=X3oDMTA4NDgyNWN0BHNlYwNwcm9m/SIG=12nrfaaq2/EXP=1175806073/**http%3A//people.emich.edu/pbogle/PHED_200/overheads/ch4_art/04_12.jpg"/>
          <p:cNvPicPr/>
          <p:nvPr/>
        </p:nvPicPr>
        <p:blipFill>
          <a:blip r:embed="rId1"/>
          <a:srcRect l="74143" t="46158" r="1599" b="27892"/>
          <a:stretch/>
        </p:blipFill>
        <p:spPr>
          <a:xfrm>
            <a:off x="4038480" y="220968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318" name="Oval 12"/>
          <p:cNvSpPr/>
          <p:nvPr/>
        </p:nvSpPr>
        <p:spPr>
          <a:xfrm>
            <a:off x="3962520" y="3048120"/>
            <a:ext cx="1523880" cy="9903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3886200" y="3962520"/>
            <a:ext cx="1523880" cy="9903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5"/>
          <p:cNvSpPr/>
          <p:nvPr/>
        </p:nvSpPr>
        <p:spPr>
          <a:xfrm>
            <a:off x="3886200" y="5029200"/>
            <a:ext cx="1523880" cy="99072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tic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9" descr="http://rds.yahoo.com/_ylt=A9iby4XZEBRG2MMADjSjzbkF;_ylu=X3oDMTA4NDgyNWN0BHNlYwNwcm9m/SIG=12d4ouhhs/EXP=1175806553/**http%3A//biology.kenyon.edu/courses/biol114/Chap05/code.gif"/>
          <p:cNvPicPr/>
          <p:nvPr/>
        </p:nvPicPr>
        <p:blipFill>
          <a:blip r:embed="rId1"/>
          <a:stretch/>
        </p:blipFill>
        <p:spPr>
          <a:xfrm>
            <a:off x="533520" y="1066680"/>
            <a:ext cx="81374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ibosome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 5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atching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air with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http://rds.yahoo.com/_ylt=A9iby4VzEhRG6sIAWICjzbkF;_ylu=X3oDMTA4NDgyNWN0BHNlYwNwcm9m/SIG=12qp0i0co/EXP=1175806963/**http%3A//www.theory-of-evolution.net/chap3/translation-ribosome1-3-8.GIF"/>
          <p:cNvPicPr/>
          <p:nvPr/>
        </p:nvPicPr>
        <p:blipFill>
          <a:blip r:embed="rId1"/>
          <a:srcRect l="55792" t="0" r="0" b="35164"/>
          <a:stretch/>
        </p:blipFill>
        <p:spPr>
          <a:xfrm>
            <a:off x="4267080" y="2133720"/>
            <a:ext cx="4876920" cy="41907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4876920" y="4267080"/>
            <a:ext cx="2209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 flipH="1">
            <a:off x="5029200" y="4267080"/>
            <a:ext cx="914400" cy="99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6095880" y="4343400"/>
            <a:ext cx="10670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6933960" y="4267080"/>
            <a:ext cx="1143000" cy="99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NA  brings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ino ac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ino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http://rds.yahoo.com/_ylt=A9iby4EKFBRGEhABTiqjzbkF;_ylu=X3oDMTA4NDgyNWN0BHNlYwNwcm9m/SIG=12skddj44/EXP=1175807370/**http%3A//www.theory-of-evolution.net/chap3/3-10-translation-initiation.GIF"/>
          <p:cNvPicPr/>
          <p:nvPr/>
        </p:nvPicPr>
        <p:blipFill>
          <a:blip r:embed="rId1"/>
          <a:srcRect l="29185" t="13450" r="15520" b="34669"/>
          <a:stretch/>
        </p:blipFill>
        <p:spPr>
          <a:xfrm>
            <a:off x="4191120" y="19051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2"/>
          <p:cNvSpPr/>
          <p:nvPr/>
        </p:nvSpPr>
        <p:spPr>
          <a:xfrm>
            <a:off x="5486400" y="1905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495680" y="2057400"/>
            <a:ext cx="1828800" cy="533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e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til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ntire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ad and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4" descr="awASD.bmp"/>
          <p:cNvPicPr/>
          <p:nvPr/>
        </p:nvPicPr>
        <p:blipFill>
          <a:blip r:embed="rId1"/>
          <a:srcRect l="10132" t="26664" r="5285" b="5327"/>
          <a:stretch/>
        </p:blipFill>
        <p:spPr>
          <a:xfrm>
            <a:off x="4038480" y="1371600"/>
            <a:ext cx="5019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= An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rig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5" descr="http://rds.yahoo.com/_ylt=A9iby4BPIBRG_LMASQejzbkF;_ylu=X3oDMTA4NDgyNWN0BHNlYwNwcm9m/SIG=11tt2mk6p/EXP=1175810511/**http%3A//www.novia.net/~kcarlson/x-men4.jpg"/>
          <p:cNvPicPr/>
          <p:nvPr/>
        </p:nvPicPr>
        <p:blipFill>
          <a:blip r:embed="rId1"/>
          <a:stretch/>
        </p:blipFill>
        <p:spPr>
          <a:xfrm>
            <a:off x="5257800" y="3276720"/>
            <a:ext cx="3581280" cy="30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ttp://rds.yahoo.com/_ylt=A9iby6GaIBRG8iUApnWjzbkF;_ylu=X3oDMTA4NDgyNWN0BHNlYwNwcm9m/SIG=12dhh4i17/EXP=1175810586/**http%3A//filmfreakcentral.net/screenreviews/spider-man2.jpg"/>
          <p:cNvPicPr/>
          <p:nvPr/>
        </p:nvPicPr>
        <p:blipFill>
          <a:blip r:embed="rId2"/>
          <a:srcRect l="0" t="0" r="0" b="6573"/>
          <a:stretch/>
        </p:blipFill>
        <p:spPr>
          <a:xfrm>
            <a:off x="304920" y="289548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tations: Chang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tations: Changes to one or a few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http://rds.yahoo.com/_ylt=A9gnMibMQBRG_T0BKXGjzbkF;_ylu=X3oDMTA4NDgyNWN0BHNlYwNwcm9m/SIG=12p3lc4pg/EXP=1175818828/**http%3A//www.mad-cow.org/prion_structure_folder/human_mutsRIB_pnas.jpeg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base with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819520" y="1676520"/>
            <a:ext cx="6095880" cy="1600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60367" t="33191" r="1150" b="52436"/>
          <a:stretch/>
        </p:blipFill>
        <p:spPr>
          <a:xfrm>
            <a:off x="2819520" y="3505320"/>
            <a:ext cx="5867280" cy="1447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3"/>
          <a:srcRect l="60367" t="57156" r="1150" b="28471"/>
          <a:stretch/>
        </p:blipFill>
        <p:spPr>
          <a:xfrm>
            <a:off x="2819520" y="5105520"/>
            <a:ext cx="5867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ase or cod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2057400"/>
            <a:ext cx="6096240" cy="1600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7071" t="55718" r="50635" b="29228"/>
          <a:stretch/>
        </p:blipFill>
        <p:spPr>
          <a:xfrm>
            <a:off x="2743200" y="4343400"/>
            <a:ext cx="6019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ir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905120"/>
            <a:ext cx="6096240" cy="160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73043" r="59669" b="3619"/>
          <a:stretch/>
        </p:blipFill>
        <p:spPr>
          <a:xfrm>
            <a:off x="2666880" y="3886200"/>
            <a:ext cx="6096240" cy="2743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7"/>
          <p:cNvSpPr/>
          <p:nvPr/>
        </p:nvSpPr>
        <p:spPr>
          <a:xfrm>
            <a:off x="2666880" y="4191120"/>
            <a:ext cx="2133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724280" y="41911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Conclu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ing,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cteria + dead,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isease-ca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cteria = pneumo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 harmless type somehow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qui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mful 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114800" y="4876920"/>
            <a:ext cx="26812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7524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30109" r="52152" b="52670"/>
          <a:stretch/>
        </p:blipFill>
        <p:spPr>
          <a:xfrm>
            <a:off x="2743200" y="4267080"/>
            <a:ext cx="6172200" cy="21243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2743200" y="42670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Frameshift mutation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the reading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7524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30109" r="52152" b="52670"/>
          <a:stretch/>
        </p:blipFill>
        <p:spPr>
          <a:xfrm>
            <a:off x="2743200" y="4267080"/>
            <a:ext cx="6172200" cy="212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2743200" y="42670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hrom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tations: Change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romosomes or thei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2" descr="http://rds.yahoo.com/_ylt=A9gnMimlQhRG9VMA5RqjzbkF;_ylu=X3oDMTA4NDgyNWN0BHNlYwNwcm9m/SIG=12itlmthg/EXP=1175819301/**http%3A//faculty.uca.edu/~benw/biol1400/pictures/chromosomes.jpg"/>
          <p:cNvPicPr/>
          <p:nvPr/>
        </p:nvPicPr>
        <p:blipFill>
          <a:blip r:embed="rId1"/>
          <a:stretch/>
        </p:blipFill>
        <p:spPr>
          <a:xfrm>
            <a:off x="34290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ocat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n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rea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 an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0" t="71145" r="0" b="0"/>
          <a:stretch/>
        </p:blipFill>
        <p:spPr>
          <a:xfrm>
            <a:off x="1828800" y="2666880"/>
            <a:ext cx="533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verses dir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76901" t="8230" r="-1007" b="61219"/>
          <a:stretch/>
        </p:blipFill>
        <p:spPr>
          <a:xfrm>
            <a:off x="2819520" y="251460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102" t="9287" r="72479" b="65069"/>
          <a:stretch/>
        </p:blipFill>
        <p:spPr>
          <a:xfrm>
            <a:off x="2971800" y="22860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ion: Adds a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xtra 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35882" t="9287" r="34321" b="59723"/>
          <a:stretch/>
        </p:blipFill>
        <p:spPr>
          <a:xfrm>
            <a:off x="2743200" y="213372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 Change can be harmful: Produc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eins,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e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many genetic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or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8" descr="http://rds.yahoo.com/_ylt=A9iby6FvSBRGI24AvD2jzbkF;_ylu=X3oDMTA4NDgyNWN0BHNlYwNwcm9m/SIG=12bi9g9n6/EXP=1175820783/**http%3A//www.harunyahya.com/images/ramadan/mutations3.jpg"/>
          <p:cNvPicPr/>
          <p:nvPr/>
        </p:nvPicPr>
        <p:blipFill>
          <a:blip r:embed="rId1"/>
          <a:stretch/>
        </p:blipFill>
        <p:spPr>
          <a:xfrm>
            <a:off x="5943600" y="2438280"/>
            <a:ext cx="27781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can be good: Produc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zymes, develop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there is little o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4" descr="http://rds.yahoo.com/_ylt=A9ibyGb7RxRGk5sABUyjzbkF;_ylu=X3oDMTA4NDgyNWN0BHNlYwNwcm9m/SIG=12oirvfh0/EXP=1175820667/**http%3A//www.seniorcitizens.com/images/the_bird_flu_newsweek_cover.jpg"/>
          <p:cNvPicPr/>
          <p:nvPr/>
        </p:nvPicPr>
        <p:blipFill>
          <a:blip r:embed="rId1"/>
          <a:stretch/>
        </p:blipFill>
        <p:spPr>
          <a:xfrm>
            <a:off x="5638680" y="1371600"/>
            <a:ext cx="32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enes work in groups = Op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Coli bacteria: Lacto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Lac Operon = 3 genes work togeth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to make lactase (breaks down lact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7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0" t="0" r="17024" b="86514"/>
          <a:stretch/>
        </p:blipFill>
        <p:spPr>
          <a:xfrm>
            <a:off x="457200" y="3962520"/>
            <a:ext cx="8305920" cy="25923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1066680" y="47242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33520" y="5257800"/>
            <a:ext cx="1523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Conclu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rans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ability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heri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ight be caused by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419720" y="4648320"/>
            <a:ext cx="28335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Operato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an b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igg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Repressor = Th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ig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0" t="0" r="17024" b="86514"/>
          <a:stretch/>
        </p:blipFill>
        <p:spPr>
          <a:xfrm>
            <a:off x="457200" y="3962520"/>
            <a:ext cx="8305920" cy="2592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1066680" y="47242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533520" y="5257800"/>
            <a:ext cx="1523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3048120" y="5029200"/>
            <a:ext cx="914400" cy="1295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ct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ccu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e repress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4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18151" t="20199" r="23350" b="53117"/>
          <a:stretch/>
        </p:blipFill>
        <p:spPr>
          <a:xfrm>
            <a:off x="3276720" y="1905120"/>
            <a:ext cx="5638680" cy="3886200"/>
          </a:xfrm>
          <a:prstGeom prst="rect">
            <a:avLst/>
          </a:prstGeom>
          <a:ln w="0">
            <a:noFill/>
          </a:ln>
        </p:spPr>
      </p:pic>
      <p:sp>
        <p:nvSpPr>
          <p:cNvPr id="407" name="Oval 9"/>
          <p:cNvSpPr/>
          <p:nvPr/>
        </p:nvSpPr>
        <p:spPr>
          <a:xfrm>
            <a:off x="3657600" y="4495680"/>
            <a:ext cx="1600200" cy="1143000"/>
          </a:xfrm>
          <a:prstGeom prst="ellipse">
            <a:avLst/>
          </a:prstGeom>
          <a:solidFill>
            <a:srgbClr val="33cc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952880" y="2743200"/>
            <a:ext cx="762120" cy="6858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actose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 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represso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oesn’t 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18151" t="45553" r="23350" b="27767"/>
          <a:stretch/>
        </p:blipFill>
        <p:spPr>
          <a:xfrm>
            <a:off x="3352680" y="1981080"/>
            <a:ext cx="5791320" cy="3962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8"/>
          <p:cNvSpPr/>
          <p:nvPr/>
        </p:nvSpPr>
        <p:spPr>
          <a:xfrm>
            <a:off x="3429000" y="4572000"/>
            <a:ext cx="2743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4572000" y="4114800"/>
            <a:ext cx="685800" cy="9144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3657600" y="3962520"/>
            <a:ext cx="914400" cy="1066680"/>
          </a:xfrm>
          <a:prstGeom prst="ellipse">
            <a:avLst/>
          </a:prstGeom>
          <a:solidFill>
            <a:srgbClr val="33cc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’t have ope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s controlle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divid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 reg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x = Located just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Help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 polymer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it’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685800" y="4572000"/>
            <a:ext cx="79246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"/>
          <p:cNvSpPr/>
          <p:nvPr/>
        </p:nvSpPr>
        <p:spPr>
          <a:xfrm>
            <a:off x="281952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8098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52578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6705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600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29200" y="3505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5105520" y="6095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 flipV="1">
            <a:off x="426672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3"/>
          <p:cNvSpPr/>
          <p:nvPr/>
        </p:nvSpPr>
        <p:spPr>
          <a:xfrm flipV="1">
            <a:off x="5638680" y="4800600"/>
            <a:ext cx="15264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4"/>
          <p:cNvSpPr/>
          <p:nvPr/>
        </p:nvSpPr>
        <p:spPr>
          <a:xfrm flipV="1">
            <a:off x="5867280" y="4952520"/>
            <a:ext cx="129564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 flipH="1">
            <a:off x="502884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5791320" y="3962520"/>
            <a:ext cx="76176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7"/>
          <p:cNvSpPr/>
          <p:nvPr/>
        </p:nvSpPr>
        <p:spPr>
          <a:xfrm flipV="1">
            <a:off x="28195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mo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Where RNA polymerase will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irst att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85800" y="4572000"/>
            <a:ext cx="79246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5"/>
          <p:cNvSpPr/>
          <p:nvPr/>
        </p:nvSpPr>
        <p:spPr>
          <a:xfrm>
            <a:off x="358128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4419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58672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73152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2743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5562720" y="3505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58672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2"/>
          <p:cNvSpPr/>
          <p:nvPr/>
        </p:nvSpPr>
        <p:spPr>
          <a:xfrm flipH="1" flipV="1">
            <a:off x="480024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3"/>
          <p:cNvSpPr/>
          <p:nvPr/>
        </p:nvSpPr>
        <p:spPr>
          <a:xfrm flipV="1">
            <a:off x="6248520" y="4800600"/>
            <a:ext cx="15228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4"/>
          <p:cNvSpPr/>
          <p:nvPr/>
        </p:nvSpPr>
        <p:spPr>
          <a:xfrm flipV="1">
            <a:off x="6781680" y="4876920"/>
            <a:ext cx="129564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5"/>
          <p:cNvSpPr/>
          <p:nvPr/>
        </p:nvSpPr>
        <p:spPr>
          <a:xfrm flipH="1">
            <a:off x="563832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6400800" y="3962520"/>
            <a:ext cx="7621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35053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213372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19"/>
          <p:cNvSpPr/>
          <p:nvPr/>
        </p:nvSpPr>
        <p:spPr>
          <a:xfrm>
            <a:off x="251460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20"/>
          <p:cNvSpPr/>
          <p:nvPr/>
        </p:nvSpPr>
        <p:spPr>
          <a:xfrm>
            <a:off x="289548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18288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nhanc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gn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eeded, attract RNA polymer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228600" y="4572000"/>
            <a:ext cx="83818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58128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4419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58672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73152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743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562720" y="3505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58672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480024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V="1">
            <a:off x="6248520" y="4800600"/>
            <a:ext cx="15228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V="1">
            <a:off x="6781680" y="4876920"/>
            <a:ext cx="129564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563832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6400800" y="3962520"/>
            <a:ext cx="7621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V="1">
            <a:off x="35053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8"/>
          <p:cNvSpPr/>
          <p:nvPr/>
        </p:nvSpPr>
        <p:spPr>
          <a:xfrm>
            <a:off x="213372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9"/>
          <p:cNvSpPr/>
          <p:nvPr/>
        </p:nvSpPr>
        <p:spPr>
          <a:xfrm>
            <a:off x="251460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289548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18288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23"/>
          <p:cNvSpPr/>
          <p:nvPr/>
        </p:nvSpPr>
        <p:spPr>
          <a:xfrm>
            <a:off x="6094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143000" y="4876920"/>
            <a:ext cx="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8600" y="59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ukary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ulation s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ulticellula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ec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ost cells hav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ull ge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aking HCl in the brai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27" descr="http://rds.yahoo.com/_ylt=A9gnMiiZHhVGIOkAahqjzbkF;_ylu=X3oDMTA4NDgyNWN0BHNlYwNwcm9m/SIG=12b7kvtf7/EXP=1175875609/**http%3A//www.frontrange.edu/images/pages/9336/Stomach.jpg"/>
          <p:cNvPicPr/>
          <p:nvPr/>
        </p:nvPicPr>
        <p:blipFill>
          <a:blip r:embed="rId1"/>
          <a:srcRect l="6879" t="1963" r="18484" b="21181"/>
          <a:stretch/>
        </p:blipFill>
        <p:spPr>
          <a:xfrm>
            <a:off x="6858000" y="2743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9" descr="http://rds.yahoo.com/_ylt=A9gnMiUWIBVGWdAAOR2jzbkF;_ylu=X3oDMTA4NDgyNWN0BHNlYwNwcm9m/SIG=128av4mjj/EXP=1175875990/**http%3A//www.wendingourway.com/images/stamps/brain.jpg"/>
          <p:cNvPicPr/>
          <p:nvPr/>
        </p:nvPicPr>
        <p:blipFill>
          <a:blip r:embed="rId2"/>
          <a:stretch/>
        </p:blipFill>
        <p:spPr>
          <a:xfrm>
            <a:off x="6629400" y="4800600"/>
            <a:ext cx="1981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s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ells becom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erform proper functions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7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1"/>
          <a:srcRect l="35842" t="67237" r="0" b="21310"/>
          <a:stretch/>
        </p:blipFill>
        <p:spPr>
          <a:xfrm>
            <a:off x="4495680" y="2971800"/>
            <a:ext cx="4419720" cy="1447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2"/>
          <a:srcRect l="34633" t="0" r="46169" b="90852"/>
          <a:stretch/>
        </p:blipFill>
        <p:spPr>
          <a:xfrm>
            <a:off x="4343400" y="1295280"/>
            <a:ext cx="1828800" cy="1067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3"/>
          <a:srcRect l="33279" t="83321" r="0" b="0"/>
          <a:stretch/>
        </p:blipFill>
        <p:spPr>
          <a:xfrm>
            <a:off x="4191120" y="4876920"/>
            <a:ext cx="4495680" cy="1692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4"/>
          <a:srcRect l="37856" t="35712" r="46623" b="53715"/>
          <a:stretch/>
        </p:blipFill>
        <p:spPr>
          <a:xfrm>
            <a:off x="6934320" y="129528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Line 11"/>
          <p:cNvSpPr/>
          <p:nvPr/>
        </p:nvSpPr>
        <p:spPr>
          <a:xfrm>
            <a:off x="6095880" y="1828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 flipH="1">
            <a:off x="6629040" y="2362320"/>
            <a:ext cx="60948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4876920" y="4876920"/>
            <a:ext cx="3352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5"/>
          <p:cNvSpPr/>
          <p:nvPr/>
        </p:nvSpPr>
        <p:spPr>
          <a:xfrm flipH="1">
            <a:off x="5105160" y="4038480"/>
            <a:ext cx="7596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5791320" y="38862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>
            <a:off x="6476760" y="4038480"/>
            <a:ext cx="15228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8"/>
          <p:cNvSpPr/>
          <p:nvPr/>
        </p:nvSpPr>
        <p:spPr>
          <a:xfrm flipH="1">
            <a:off x="7772040" y="3962520"/>
            <a:ext cx="152280" cy="1371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x 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ell cell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6" descr="http://rds.yahoo.com/_ylt=A9gnMiWtJBVG9MwATEWjzbkF;_ylu=X3oDMTA4NDgyNWN0BHNlYwNwcm9m/SIG=120sq5gjh/EXP=1175877165/**http%3A//pharyngula.org/images/mouse_hom-c.jpg"/>
          <p:cNvPicPr/>
          <p:nvPr/>
        </p:nvPicPr>
        <p:blipFill>
          <a:blip r:embed="rId1"/>
          <a:stretch/>
        </p:blipFill>
        <p:spPr>
          <a:xfrm>
            <a:off x="2438280" y="2895480"/>
            <a:ext cx="6324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cLeod &amp; McCarty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9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pe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iffith’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ixed wit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nzy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stro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thing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rans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ill happe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simila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for eye development in m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on the leg of a f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 had an eye on it’s leg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http://rds.yahoo.com/_ylt=A9gnMiYlJhVGV4EA9RqjzbkF;_ylu=X3oDMTA4NDgyNWN0BHNlYwNwcm9m/SIG=12asacvul/EXP=1175877541/**http%3A//www.its.caltech.edu/~vivek/Icons/drosophila.jpg"/>
          <p:cNvPicPr/>
          <p:nvPr/>
        </p:nvPicPr>
        <p:blipFill>
          <a:blip r:embed="rId1"/>
          <a:srcRect l="16000" t="29415" r="0" b="0"/>
          <a:stretch/>
        </p:blipFill>
        <p:spPr>
          <a:xfrm>
            <a:off x="5410080" y="3809880"/>
            <a:ext cx="3314880" cy="2713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http://rds.yahoo.com/_ylt=A9gnMiYlJhVGV4EA9RqjzbkF;_ylu=X3oDMTA4NDgyNWN0BHNlYwNwcm9m/SIG=12asacvul/EXP=1175877541/**http%3A//www.its.caltech.edu/~vivek/Icons/drosophila.jpg"/>
          <p:cNvPicPr/>
          <p:nvPr/>
        </p:nvPicPr>
        <p:blipFill>
          <a:blip r:embed="rId2"/>
          <a:srcRect l="26137" t="65361" r="62139" b="21578"/>
          <a:stretch/>
        </p:blipFill>
        <p:spPr>
          <a:xfrm>
            <a:off x="7086600" y="5181480"/>
            <a:ext cx="5335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33:45Z</dcterms:created>
  <dc:creator>Leanne</dc:creator>
  <dc:description/>
  <dc:language>en-US</dc:language>
  <cp:lastModifiedBy>biochemchic21</cp:lastModifiedBy>
  <dcterms:modified xsi:type="dcterms:W3CDTF">2010-12-17T01:04:42Z</dcterms:modified>
  <cp:revision>35</cp:revision>
  <dc:subject/>
  <dc:title>Molecular Genetics</dc:title>
</cp:coreProperties>
</file>